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28.wmf" ContentType="image/x-wmf"/>
  <Override PartName="/ppt/media/image13.wmf" ContentType="image/x-wmf"/>
  <Override PartName="/ppt/media/image25.gif" ContentType="image/gif"/>
  <Override PartName="/ppt/media/image9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26.gif" ContentType="image/gif"/>
  <Override PartName="/ppt/media/image5.jpeg" ContentType="image/jpeg"/>
  <Override PartName="/ppt/media/image27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3.jpeg" ContentType="image/jpeg"/>
  <Override PartName="/ppt/media/image19.png" ContentType="image/png"/>
  <Override PartName="/ppt/media/image16.gif" ContentType="image/gif"/>
  <Override PartName="/ppt/media/image1.wmf" ContentType="image/x-wmf"/>
  <Override PartName="/ppt/media/image2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2A1B-0ABC-4BE0-B007-7E9A310A0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53C4-5181-4870-88F2-0CD6EB9F5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78E1-A525-4199-B006-032BAFD49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6B31-CF59-4CAF-8027-6B3931907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12B3-FA63-4A72-91FC-67E7F4AE0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ACE3-D998-4641-97B3-5D2A90AF0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8A57-306C-4C9C-B82F-72A18209A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C767-12FF-42AF-A900-88D10CAC2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FC9A-EC28-4618-8518-9AE39953B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F7B5-EB1A-49A6-8DD8-3F1BDB98C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F9AC-35A6-4BFA-91FA-237DA1BE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5D6C-7E96-4755-9F1E-79AD3081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241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255A5-3ACA-4488-B9EA-4DAA974398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gif"/><Relationship Id="rId6" Type="http://schemas.openxmlformats.org/officeDocument/2006/relationships/image" Target="../media/image15.wmf"/><Relationship Id="rId7" Type="http://schemas.openxmlformats.org/officeDocument/2006/relationships/image" Target="../media/image16.gif"/><Relationship Id="rId8" Type="http://schemas.openxmlformats.org/officeDocument/2006/relationships/image" Target="../media/image26.gif"/><Relationship Id="rId9" Type="http://schemas.openxmlformats.org/officeDocument/2006/relationships/image" Target="../media/image2.wmf"/><Relationship Id="rId10" Type="http://schemas.openxmlformats.org/officeDocument/2006/relationships/image" Target="../media/image1.wmf"/><Relationship Id="rId11" Type="http://schemas.openxmlformats.org/officeDocument/2006/relationships/image" Target="../media/image27.wmf"/><Relationship Id="rId12" Type="http://schemas.openxmlformats.org/officeDocument/2006/relationships/image" Target="../media/image14.wmf"/><Relationship Id="rId13" Type="http://schemas.openxmlformats.org/officeDocument/2006/relationships/image" Target="../media/image28.wmf"/><Relationship Id="rId14" Type="http://schemas.openxmlformats.org/officeDocument/2006/relationships/image" Target="../media/image12.wmf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1219320"/>
            <a:ext cx="69008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E  ELEVATOR  TAL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01480" y="4713120"/>
            <a:ext cx="263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rik Grimsh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cos M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eban Samb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se Ignacio San J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73400" y="3471840"/>
            <a:ext cx="268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ember 1,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am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248520" y="3673440"/>
            <a:ext cx="2133360" cy="21178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62120" y="2619360"/>
            <a:ext cx="1689120" cy="1876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6A87-69A3-4E68-ACB0-E55F6D2985B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74520" y="179280"/>
            <a:ext cx="602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nagerial Problem 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38080" y="4952880"/>
            <a:ext cx="7467840" cy="11145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: Minimize time elevators spend to distribu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and faculty into KMC floors @ peak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7620120" cy="29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to assign elevators to passengers in real time while optimizing different elevator configurations with respect to overall service quality, traffic throughput, energy consumption, etc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 OR, more simply 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optimal arrangement by which the three elevators of the Kaufman Management Center and the four elevators of Skimkin Hall can be se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B3FC-C917-42CF-87ED-528928B09DB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5240" y="179280"/>
            <a:ext cx="313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ta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1206360"/>
            <a:ext cx="7162920" cy="50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urce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tern Administration, Team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mand” for Elevat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s 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ximum capacity per class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ly” of Elevat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tary capacity per elev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erage time to walk up a fl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erage elevator time between flo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erage elevator stop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4BA4-358B-4522-A9DD-4C0EB61DBD1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6320" y="179280"/>
            <a:ext cx="275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sum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1111320"/>
            <a:ext cx="8763120" cy="52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evat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tary capacity per elevator: KMC 15, Shimkin 18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 between floors: 3 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op time: 10 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vator capacity equally distributed among floor st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vators will always stop at the designated flo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mand for elevators only exists on first floor, and all at o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ople will walk up one flight and down two rather than wa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inherent preferences among riders (all equally accessi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ly interested in total demand at peak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ignore demand from one intermediate floor to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3CF9-2E1C-4691-A93C-84BE4FFF110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75960" y="179280"/>
            <a:ext cx="252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r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1066680"/>
            <a:ext cx="8697960" cy="561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cision Variab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nary 1/0 per elevator per floor (1 = Elevator stops he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mber of runs per elevator from first to terminal fl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j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imize elevators’ total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floors are served with minimum one elevator except floor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city served per floor higher or equal to floor de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minimum runs per elev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erence between number of runs made by the most a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vator and that made by the least active elevator can 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eed 9 (“balance” constraint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A5ED-5399-4CB4-AB5C-24E4B2BCB84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5240" y="179280"/>
            <a:ext cx="270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hod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973080"/>
            <a:ext cx="9031320" cy="46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ulate demand for each floor from first floor at various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ze capacity information from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imate utilization percentages for classroom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n Evolutionary Solver for five demand pea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:00AM, 10.30AM, 12:00PM, 1.30 PM, 6:00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solver run mandates at least 3 elevators stop at each fl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ccessive runs gradually eliminate elevator stop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serve where service capacity greatly exceeds de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uce solver’s mandated stop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e runs to avoid local min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486400" y="5473800"/>
            <a:ext cx="2743200" cy="1159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he context of evolutionary algorithms, policies can be interpreted as successful genes that have to be combined to make up a complete genome.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E595-276D-4BD2-B953-D5C08206669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75600" y="179280"/>
            <a:ext cx="566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mand Simulation for 9 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458200" cy="4613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AA3B-E3A2-4846-B2C6-E5AF9E35330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5960" y="179280"/>
            <a:ext cx="327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del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7200" y="833400"/>
            <a:ext cx="8229600" cy="551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059E-E87C-4EB3-B3CC-9F164329EF5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5960" y="179280"/>
            <a:ext cx="327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del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362320" y="3838680"/>
            <a:ext cx="4400280" cy="23050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362320" y="1247760"/>
            <a:ext cx="4402080" cy="2305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FB6E-C7AE-4B02-A2EC-661B6A68FFE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5240" y="179280"/>
            <a:ext cx="343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ptimized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51600" y="960480"/>
            <a:ext cx="7637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tal Time: 4554 seco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ximum elevator run time to serve demand @ 9 a.m. 22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verage time per person to reach desired floor 4.84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7315200" cy="4570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D1E4-5AF9-43CD-879E-7D293A4792F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75600" y="17928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62040" y="1531800"/>
            <a:ext cx="7719840" cy="4106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9309-46DD-499E-AE92-6BE84D1BE94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600200"/>
            <a:ext cx="7696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920" y="179280"/>
            <a:ext cx="167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550880"/>
            <a:ext cx="8534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 Guidelines/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r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ensions of th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8002" t="24000" r="2002" b="22669"/>
          <a:stretch/>
        </p:blipFill>
        <p:spPr>
          <a:xfrm>
            <a:off x="1676520" y="4038480"/>
            <a:ext cx="5410080" cy="2405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93DF-BC11-4D34-8A4A-3640A26B206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75600" y="17928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2280" y="1243080"/>
            <a:ext cx="8839440" cy="42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@ peak hours, if you are going to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 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loor, take the stairs (average time of 1:30 min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loor or higher, keep in mind a likely waiting time of over 4 minu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iting time depends heavily on whether the most de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on the KMC upper floors or not - it took longer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erage to wait for an elevator at noon, when the only r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mand was for the 11th floor, than it did to get an elev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6pm, where there are many more people but they all 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f on floors 3-5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76B6-7031-4215-9E2A-F7094A0510C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04920" y="3124080"/>
            <a:ext cx="7696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4920" y="179280"/>
            <a:ext cx="167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550880"/>
            <a:ext cx="8534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 Guidelines/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r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ons of th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FB40-7A4A-4BE7-9CCF-EDC04F5E9EE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3800" y="179280"/>
            <a:ext cx="503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tensions Of Th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1550880"/>
            <a:ext cx="883944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oduce opportunity costs that penalize low # of ru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el interarrival times and distribution of demand per flo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 complex network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oduce new technology (elevator optimiz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63E4-8874-4E15-AD14-461FBCBE7FA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86040" y="179280"/>
            <a:ext cx="616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evator Optimizer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1093680"/>
            <a:ext cx="883944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ntralized computer-base elevator managemen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elevators have no floor buttons in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enter the floor you want to go to in a touchpad located 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floor outside the elev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ystem assigns you to one elevator using a pre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grammed optimizer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ouchpad shows the elevator you need to t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an optimizer application is managing the elevators, th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 operated at maximum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6886440" y="4898880"/>
            <a:ext cx="907920" cy="1431720"/>
            <a:chOff x="6886440" y="4898880"/>
            <a:chExt cx="907920" cy="143172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6886440" y="4898880"/>
              <a:ext cx="907920" cy="143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flipV="1">
              <a:off x="6974280" y="5103000"/>
              <a:ext cx="706320" cy="818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974280" y="5103000"/>
              <a:ext cx="706320" cy="818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998640" y="5051520"/>
            <a:ext cx="1135080" cy="1197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FC45-9F3F-4364-A024-FAA043C694E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905120" y="2743200"/>
            <a:ext cx="52578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953400" y="1752480"/>
            <a:ext cx="1428480" cy="1447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064040" y="4648320"/>
            <a:ext cx="965160" cy="15303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838080" y="914400"/>
            <a:ext cx="1295640" cy="1219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F191-46A0-4FB4-887A-DCADA15ABF0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905120" y="2743200"/>
            <a:ext cx="52578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Back-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953400" y="1752480"/>
            <a:ext cx="1428480" cy="14479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064040" y="4648320"/>
            <a:ext cx="965160" cy="1530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838080" y="914400"/>
            <a:ext cx="1295640" cy="1219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9644-9B19-484D-AD3F-1C62CBC4189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2360" y="152280"/>
            <a:ext cx="81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ptimized model For 10:30, 1:30 and 3: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467480" cy="27162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990720" y="3657600"/>
            <a:ext cx="7466040" cy="2716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6224-187E-4B85-8E35-A23F05D10F1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07640" y="152280"/>
            <a:ext cx="713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ptimized model For 12:00 and 6: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992160" y="866880"/>
            <a:ext cx="7462800" cy="27144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993600" y="3657600"/>
            <a:ext cx="7463160" cy="2714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E8D9-67E9-4373-808A-B5D14FF818F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52640" y="179280"/>
            <a:ext cx="164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p 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905040" cy="9050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723960"/>
            <a:ext cx="1219320" cy="10605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2271600" y="3581280"/>
            <a:ext cx="1766880" cy="13176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4495680" y="3981600"/>
            <a:ext cx="1270080" cy="24955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7086600" y="990720"/>
            <a:ext cx="857160" cy="828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7238880" y="2362320"/>
            <a:ext cx="1109880" cy="17589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7"/>
          <a:stretch/>
        </p:blipFill>
        <p:spPr>
          <a:xfrm>
            <a:off x="762120" y="5486400"/>
            <a:ext cx="961920" cy="905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8"/>
          <a:stretch/>
        </p:blipFill>
        <p:spPr>
          <a:xfrm>
            <a:off x="7086600" y="4495680"/>
            <a:ext cx="1352520" cy="924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9"/>
          <a:stretch/>
        </p:blipFill>
        <p:spPr>
          <a:xfrm>
            <a:off x="457200" y="2666880"/>
            <a:ext cx="1689120" cy="18766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0"/>
          <a:stretch/>
        </p:blipFill>
        <p:spPr>
          <a:xfrm>
            <a:off x="4724280" y="2057400"/>
            <a:ext cx="1722600" cy="17096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11"/>
          <a:stretch/>
        </p:blipFill>
        <p:spPr>
          <a:xfrm>
            <a:off x="2819520" y="2133720"/>
            <a:ext cx="1042920" cy="1081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12"/>
          <a:stretch/>
        </p:blipFill>
        <p:spPr>
          <a:xfrm>
            <a:off x="6095880" y="5257800"/>
            <a:ext cx="1238400" cy="12542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13"/>
          <a:stretch/>
        </p:blipFill>
        <p:spPr>
          <a:xfrm>
            <a:off x="2514600" y="5105520"/>
            <a:ext cx="1477800" cy="1496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14"/>
          <a:stretch/>
        </p:blipFill>
        <p:spPr>
          <a:xfrm>
            <a:off x="2362320" y="304920"/>
            <a:ext cx="1120680" cy="1523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BD3D-90B3-4C84-BA14-F4CB387B6130}" type="slidenum">
              <a:t>28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9920" y="179280"/>
            <a:ext cx="662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evators are a hot issue @ S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8534160" cy="45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ern has 7 elev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@ KMC that go up to the 1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l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 @ Skimkin that go up to the 6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l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sch Hall “back door” not consid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y students use the stairs @ peak times. Some quo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vators take year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rather walk up to the 4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loor; it’s fast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I want is a frickin’ elevator.  Is that so wrong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r challenge: is there a better alternati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1B6D-2CA8-47C7-8715-C37C4C6661E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2360" y="179280"/>
            <a:ext cx="840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evator Optimization – Some 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295280"/>
            <a:ext cx="8076960" cy="3414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fficient elevator group control is a 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omplex combinatorial optimization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lem.  Recent developments in this field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clude the use of reinforcement learning, fuzz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, neural networks and evolutionary algorithms [Mar95,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CB98].  …Meta-heuristics might be useful as quic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evelop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chniques to create a new generation of self-adaptive elevator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control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systems that can handle high maximum traffic situations.  Additionally, population bas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t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heuristics such as evolution strategies can be easily paralleliz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CF27-F8DB-4F4D-B024-1056B9CEF72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72360" y="179280"/>
            <a:ext cx="840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evator Optimization – Some 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762280" y="2919240"/>
            <a:ext cx="3619440" cy="31654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144520" y="6019920"/>
            <a:ext cx="485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-Ring as an Elevato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1266840"/>
            <a:ext cx="7925040" cy="1557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problem is related to many other stochastic traffic control problems, especially with respect to the complex behavior and to many difficulties in analysis, design, simulation, and contr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DBA4-8DFA-4FA6-AD9E-7FA237B15DB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77040" y="179280"/>
            <a:ext cx="155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133720"/>
            <a:ext cx="8076960" cy="30200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mas Beielstein, Sandor Markon, and Mike Preu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arallel Approach to Elevator Optimization Based on Soft Computing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Paper prepare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2003: The Fifth Metaheuristics International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yoto, August 23-25,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7C1C-7D41-4D99-8807-62938DBF01C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2133720"/>
            <a:ext cx="76960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1550880"/>
            <a:ext cx="8534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Guidelines/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r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ensions of th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920" y="179280"/>
            <a:ext cx="167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419720" y="3333600"/>
            <a:ext cx="3581280" cy="2686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3E59-5FD5-4185-B865-D9F9FDF727E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4280" y="179280"/>
            <a:ext cx="84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al Guidelines To “Survive” Elev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2280" y="1371600"/>
            <a:ext cx="8839440" cy="42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@ peak hours, if you are going to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 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loor, take the stairs (average time of 1:30 min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loor or higher, keep in mind the wait time will likely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least 4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efficient elevators would imply some “radical” measur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 elevator capacity/number of elev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y complex network modeling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oduce a new technology (elevator optimiz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y with arrival times/queue system (e.g. form a si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ue in lobb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7AB0-507D-4358-8B3D-7E8A544D9D3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04920" y="2057400"/>
            <a:ext cx="76960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914400"/>
            <a:ext cx="85341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 guidelines/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agerial Problem 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um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tim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ensions of th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0" y="179280"/>
            <a:ext cx="167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2D97-6E00-45E5-A7E9-8FF47001A89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6T16:24:30Z</dcterms:created>
  <dc:creator>Esteban Samboal</dc:creator>
  <dc:description/>
  <dc:language>en-US</dc:language>
  <cp:lastModifiedBy>baseuser</cp:lastModifiedBy>
  <dcterms:modified xsi:type="dcterms:W3CDTF">2003-12-01T13:54:01Z</dcterms:modified>
  <cp:revision>77</cp:revision>
  <dc:subject/>
  <dc:title>Slide 1</dc:title>
</cp:coreProperties>
</file>